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D2C-5CFC-4555-9A07-92E8BB13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A1C-8329-4252-A90C-79AE62D3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DFF-351F-47DC-B028-4F40601A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2DA-C3F7-4D4B-9C28-40080D8E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EC02-119B-42C3-945B-4A73A378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A9C3-0951-4BFE-A401-1F856E1E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0E0D-9FDC-402A-B3C5-4597E813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70BD-F19B-4572-B133-A74962AF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67D5-58C5-447F-ACB0-460AA1F6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6A2D-D389-47BB-9B2C-2FF7E210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11FC-F11C-480E-B4A6-3DDAA4FC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5C1-E763-4D63-9252-89E86F5A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C67F-2267-426E-A261-B4DDF51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72B9-C72A-4F0D-AB07-A6F244B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AB8E-FC84-435F-80B0-80D0B4C9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0D55-EDB4-4543-B783-CB89D15A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101B-1472-4FBA-843D-B568343D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F0C-7D49-444A-B792-51055A38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460-71B3-4A89-85D7-A224F4DA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ACF-D9FB-4D71-A47A-15FD328A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E7A-71AF-41FB-9C6E-ECD9F01A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940-E9A0-4323-895C-28331FA8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B82-FA4E-4563-8501-0ACE08A8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318-CA1E-49B8-B7A8-B29CD1CE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63DC-6027-443A-9A47-5CBB6E7804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091F-E9A3-4BE5-ACC0-5809930BB7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retire buy 2030 on todays equivalent of 2000 a month workers have to set aside 8000 a year start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vin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ers or beliefs considered unsophisticated and naï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47246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keness or model, fe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ce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ise above or g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28958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mbr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nse, displeasure, doubt or hos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nctu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excessive self-righteousness or smug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 Practice-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vocabulary war sentence. Use 5 of the words in one sentence that makes sense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 we get a reference to what the title means. Why is it a sin to kill a mockingbird? How could this function as a metap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 children a little disappointed and a little ashamed of Atticus compared to other fa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Cal to run to the neighbors banging on do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tticus do that surprises the children and makes them realize they don’t know everything about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Jem say that they should not tell anyone at school about this inc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cus-One of the most famous characters in American Literature. He acts as a sort of moral compass in the novel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: Find one quote from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different chapters that shows what kind of man Atticus i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            Quote                Personality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019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apters 11 and 12 fo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retire by 2030 on today’s equivalent of $2,000 a month, workers have to set aside $8000 a year start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righ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cused Freewri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r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orgot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ed hat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 Unit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if it doesn’t includ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ad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n-out or we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233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uri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esome, horrible or revo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spaper gave all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f the cr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tori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rving praise, reward or 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tul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impatient irritation, especially over something mi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gav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tul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of her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8120" y="365760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roga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usive r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er prerogative to choose the first song at the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4:41:43Z</dcterms:created>
  <dc:creator>Angie</dc:creator>
  <dc:description/>
  <dc:language>en-US</dc:language>
  <cp:lastModifiedBy>Angie</cp:lastModifiedBy>
  <dcterms:modified xsi:type="dcterms:W3CDTF">2009-02-10T05:12:40Z</dcterms:modified>
  <cp:revision>3</cp:revision>
  <dc:subject/>
  <dc:title>DOL</dc:title>
</cp:coreProperties>
</file>